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4664"/>
        <c:axId val="11698185"/>
      </c:barChart>
      <c:catAx>
        <c:axId val="1224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98185"/>
        <c:crosses val="autoZero"/>
        <c:auto val="1"/>
        <c:lblAlgn val="ctr"/>
        <c:lblOffset val="100"/>
        <c:noMultiLvlLbl val="0"/>
      </c:catAx>
      <c:valAx>
        <c:axId val="11698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4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A4A-D2DC-4838-9460-9CFB2338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26D-A2C6-4843-91E2-883DA000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432-FC27-4FF4-80D7-E6129FEC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E48-88D3-4EF1-87C8-7C15ED82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DD2-19B8-4A3C-9FDA-27F70BE6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631-D525-45B2-B905-EE7CA20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EB5-F16F-43AF-8A4F-C765CEC7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1CE-835B-4F39-B02D-A46567CD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F48-3317-4695-8832-9BEEB4C7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78E-465C-4854-A1CA-58B557B8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9C5-5800-4B36-85EC-14FCD3F3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FE9-D201-49BC-A362-ED1E963B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5F6BD-DCD7-47F3-A23C-EED717541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